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7B8A-B613-45C7-8F81-1236CB5D0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CB46-606D-40BF-A22B-5A7E7BB5B95B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CBF-F2D3-4FEB-9A21-ECE4EE9E022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4BFB-5FB5-454B-A970-9A32D5C46B7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720-5861-4D0A-B1A3-8B9379EDC65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949-21EC-4C73-A63C-D4D195B8AC0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0C69-99FC-4681-BD81-DFDA71D1462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1FDF-46CB-45FC-87C3-9A49AD6F3FF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AF12-E0AD-4C03-99EA-32EE79BE3A08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E946-DC75-48DD-A2A8-76A2840B620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B7E7-22A5-440E-AAA2-F9C268840DA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85D8-BB9D-4779-8F7F-BDEEAF1884D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02D6-9A68-4D6B-A5F1-DBF44B282E4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1F8C-00A4-4383-944E-CDF13AB708E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471C-046C-4EAE-835F-DF4073ADAB9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40A-7804-4952-BE4C-345A802818B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C31C-7682-41B2-86EB-85AA16E979A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5B84-F19C-4943-82AA-8573492075C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05F-033D-4D2D-A025-EBCB9638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986-8892-4741-9DF3-3B68B0CD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ED0-A980-490A-9B87-D101E5EE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9F5-4A27-4F42-8D47-0359F395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CBFD-28B2-4A1B-A500-3B6DE65D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6CFA-20B8-47A9-8BE5-5FDC4783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E25-25BF-400A-8E54-8C09610F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5302-67A4-4B8B-BF48-4D0869C2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349-F470-49BE-8EBB-B204A4C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9532-F031-47D4-AC39-3244A6F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26EA-854B-4096-B0AD-3291E01D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C3D-3721-49AE-9D0C-EF797D3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9018-AD5A-480E-9185-9FD3043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7629-0D34-4E3F-9C3D-818A1DA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45EC-8B05-42F7-9F71-66ED5E79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2DA0-E52E-4FE8-B6C8-7B460DE6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4B94-5B78-4B33-B374-7B7DDB35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2F5-C2D5-4EC2-99B3-C98582C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69B-AC7E-4ADE-911A-62B36097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F37-24B4-42FA-870B-427F74AA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6D9-A0C0-43C1-9826-E4674DB3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8BF-F016-4108-8EBD-DA0D1081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4EC-472B-4256-A668-BCF480F6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3B6-6B1E-43DF-B06C-17DD83D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E8B3-6C75-46FE-96DE-A81888BB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6D2A-25B6-4E63-BEBB-D0E2B0B9DC8E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egrating Metacognitive Strategy Instruction into Reader Response to Enhance Reading Comprehens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5 - January 29, 2008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Levels of Metacognitive Awareness </a:t>
            </a:r>
            <a:r>
              <a:rPr b="0" lang="en-US" sz="2000" spc="-1" strike="noStrike">
                <a:solidFill>
                  <a:srgbClr val="320000"/>
                </a:solidFill>
                <a:latin typeface="Arial"/>
              </a:rPr>
              <a:t>(Perkins, 1992)</a:t>
            </a:r>
            <a:endParaRPr b="0" lang="en-US" sz="2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acit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lack awareness of their think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ware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know when meaning breaks down but no strategies to repair mea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trategic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know when meaning breaks down and uses strategies to fix mean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lective reader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reflect on reading and intentionally apply strategies not only when meaning is lost but also to deepen understa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o, can we teach students to be reflective readers? YES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-alou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explicitly model what, how, and when a strategy is use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lass discussions, peer interactions, and coaching (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s key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Integrate into subject matter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o help transfer new learning to other setting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: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Self-regul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onitor and fix-up) and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depende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tacognitive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eaching Fra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1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ink Alou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roduce, Explain, and Define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Notice and apply strategy componen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larify strategy purpos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2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fin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small and whole group practice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3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et Strategy Use Gel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apply in literature circles and content area studies)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#4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elf-assessment/goal sett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flect, monitor, and increase use of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386600" y="630864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0000"/>
                </a:solidFill>
                <a:latin typeface="Arial"/>
              </a:rPr>
              <a:t>Kelly &amp; Clausen-Grace, 2007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Becoming more aware…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rst, model with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Esau Woo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NITORING: Introduce, explain, and defin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lso predicting, asking questions, making connections, visualizing, and summariz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ow, try thinking aloud with a partner about your use of monitoring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and any other strategies you use to comprehend a new text):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Cow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Barren Moor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inking Aloud - Quick Writ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id you notic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kinds of reading/thinking strategies did you us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you find it difficult to think aloud in front of someone else? Why or why not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d thinking aloud help increase your own understanding of the text? Why/how or why not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uld it help to have a “think-aloud plan” when modeling strategy use for student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ight a “think-aloud plan” look like? 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e your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handou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an example of thinking aloud about Monitoring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e each chapter of th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Kelly &amp; Clausen-Grace book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other exampl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 thinking…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you will be asked to create a few of these script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for your book activities and to share/try out your scripts in class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Other Considerations for Metacognitive Strategy Instruction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ing a supportive, positive, and caring learning environ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ting up your classroom libra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reating a classroom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reading and learning for enjoy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membering the important role a student’s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motiva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lays in promoting their reading achievement - we’ll look more closely at this next week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Benefits of Using the Metacognitive Teaching Framework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motes discuss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common language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makes strategy use explici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provides a routine to help students connect the range of reading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not text-dependen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helps ALL readers comprehend bett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develops a bonded community of literacy learner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 Chapter 2 Books and Read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Laying the Foundation for the Metacognitive Framewor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ader Response</a:t>
            </a:r>
            <a:br>
              <a:rPr sz="4400"/>
            </a:br>
            <a:r>
              <a:rPr b="0" lang="en-US" sz="2400" spc="-1" strike="noStrike">
                <a:solidFill>
                  <a:srgbClr val="320000"/>
                </a:solidFill>
                <a:latin typeface="Arial"/>
              </a:rPr>
              <a:t>Louise Rosenblatt (1978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XT &gt; READER RESPONSE &gt; READ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Picture 5" descr="Picture 8"/>
          <p:cNvPicPr/>
          <p:nvPr/>
        </p:nvPicPr>
        <p:blipFill>
          <a:blip r:embed="rId2"/>
          <a:stretch/>
        </p:blipFill>
        <p:spPr>
          <a:xfrm>
            <a:off x="762120" y="3076560"/>
            <a:ext cx="7772400" cy="286704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 flipH="1">
            <a:off x="3429000" y="2514600"/>
            <a:ext cx="990720" cy="6858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5105520" y="2514600"/>
            <a:ext cx="1066680" cy="685800"/>
          </a:xfrm>
          <a:prstGeom prst="line">
            <a:avLst/>
          </a:prstGeom>
          <a:ln w="381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tterns of Response </a:t>
            </a:r>
            <a:br>
              <a:rPr sz="4000"/>
            </a:b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o Literature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0" name="Picture 4" descr="Picture 9"/>
          <p:cNvPicPr/>
          <p:nvPr/>
        </p:nvPicPr>
        <p:blipFill>
          <a:blip r:embed="rId1"/>
          <a:stretch/>
        </p:blipFill>
        <p:spPr>
          <a:xfrm>
            <a:off x="838080" y="1981080"/>
            <a:ext cx="7391520" cy="4129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789160" y="62485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Hancock, Chapter 1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As readers respond to more complicated texts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y should be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awar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of their mistakes AND be able to </a:t>
            </a:r>
            <a:r>
              <a:rPr b="0" lang="en-US" sz="3200" spc="-1" strike="noStrike" u="sng">
                <a:solidFill>
                  <a:srgbClr val="330000"/>
                </a:solidFill>
                <a:uFillTx/>
                <a:latin typeface="Arial"/>
              </a:rPr>
              <a:t>revise/correc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their understanding = </a:t>
            </a: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NITOR &amp; REPAI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ood readers have quick access to a variety of strategies to assist the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Let’s have a look at some examples…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19810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The Princess and </a:t>
            </a:r>
            <a:br>
              <a:rPr sz="4400"/>
            </a:b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The Bowling Ball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by Jon Scieszka &amp; Lane Smith</a:t>
            </a:r>
            <a:br>
              <a:rPr sz="3600"/>
            </a:b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(Excerpt from </a:t>
            </a:r>
            <a:br>
              <a:rPr sz="2800"/>
            </a:br>
            <a:r>
              <a:rPr b="0" i="1" lang="en-US" sz="2800" spc="-1" strike="noStrike">
                <a:solidFill>
                  <a:srgbClr val="320000"/>
                </a:solidFill>
                <a:latin typeface="Arial"/>
              </a:rPr>
              <a:t>The Stinky Cheese Man &amp; </a:t>
            </a:r>
            <a:br>
              <a:rPr sz="2800"/>
            </a:br>
            <a:r>
              <a:rPr b="0" i="1" lang="en-US" sz="2800" spc="-1" strike="noStrike">
                <a:solidFill>
                  <a:srgbClr val="320000"/>
                </a:solidFill>
                <a:latin typeface="Arial"/>
              </a:rPr>
              <a:t>Other Fairly Stupid Tales</a:t>
            </a:r>
            <a:r>
              <a:rPr b="0" lang="en-US" sz="2800" spc="-1" strike="noStrike">
                <a:solidFill>
                  <a:srgbClr val="32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20000"/>
                </a:solidFill>
                <a:latin typeface="Arial"/>
              </a:rPr>
              <a:t>The Princess and The Bowling Ball</a:t>
            </a:r>
            <a:br>
              <a:rPr sz="3600"/>
            </a:br>
            <a:r>
              <a:rPr b="0" i="1" lang="en-US" sz="2400" spc="-1" strike="noStrike">
                <a:solidFill>
                  <a:srgbClr val="320000"/>
                </a:solidFill>
                <a:latin typeface="Arial"/>
              </a:rPr>
              <a:t>(Tell what you are thinking as you listen/read along)</a:t>
            </a:r>
            <a:endParaRPr b="0" lang="en-US" sz="2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redict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from the titl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aking Connection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after I read about the princess and the pe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Question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What does a pea have to do with a bowling ball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Visualiz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”I felt like I was sleeping on a lump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as big a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 bowling ball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ummarizing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…address and resolve my confusion - Somebody/Wanted/But/So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ognitive Apprenticeship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Just like good builders model how to construct strong house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 reading teachers model how to construct deep meaning from tex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t because comprehension and metacognition takes place in one’s head…we must make our thinking visible and explicit to model important comprehension process for other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Defining Cognitive Strategies </a:t>
            </a:r>
            <a:br>
              <a:rPr sz="4400"/>
            </a:br>
            <a:r>
              <a:rPr b="0" i="1" lang="en-US" sz="4400" spc="-1" strike="noStrike">
                <a:solidFill>
                  <a:srgbClr val="320000"/>
                </a:solidFill>
                <a:latin typeface="Arial"/>
              </a:rPr>
              <a:t>(Your Reading Toolbox)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 Be aware of mistakes and apply strategies to repair/revise understand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redic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lues from text &amp; background knowled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aking Connection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Text-to-self, text-to-text, and text-to-worl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Question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ers asks ?’s and reads to clarify before, during, and after read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Visualiz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Use senses to picture, smell, taste, or feel something in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ummarizing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dentify the main idea and supporting details from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etacognitio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Cogni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Think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etacognitio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Thinking about thinking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 a reading contex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: Thinking about the goals, tasks, and strategies that will help you comprehend more deeply as you rea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09:43Z</dcterms:created>
  <dc:creator>Julie Coiro</dc:creator>
  <dc:description/>
  <dc:language>en-US</dc:language>
  <cp:lastModifiedBy>Julie Coiro</cp:lastModifiedBy>
  <dcterms:modified xsi:type="dcterms:W3CDTF">2009-10-19T13:38:45Z</dcterms:modified>
  <cp:revision>60</cp:revision>
  <dc:subject/>
  <dc:title>Metacognitive Strategy Instruction to Enhance Reading Comprehension</dc:title>
</cp:coreProperties>
</file>